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945-CC5E-483D-902D-87B744B8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6FB-FCF2-481F-98C6-C9A4C086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301-8EFA-42FE-99CF-7C1ADBDD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499-60AD-42F0-8EBD-CBB64952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564A-2287-4DB1-B5A2-7495E3D3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CB86-50E6-46A9-93C3-D3DE81F1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801E-F65A-4E14-8873-AE9583C7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9C28-3E29-48DF-AC8C-6D76CDBD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7739-E71A-4997-9EF5-F38C72A5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72DC-2258-4E7A-B508-39015F2E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75E0-734A-4247-932F-82ABFDA8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AD2-6057-4A58-B330-10459A40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273E-D106-4DCE-99A9-7F179EB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FB40-7AF1-4ADB-A1D9-300B8DF1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F892-4547-4253-BAFA-8927185E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A091-79D9-4A03-BF6B-1D7F429C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4F98-10A6-4CA7-BB03-167C418E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F86F-8094-41FA-99AD-E3BF5F8A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8F1F-91FD-499E-B9C2-F1B06AA6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D270-C5ED-4211-B410-C3F2F9C6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2493-C7B1-436D-9978-7A2B0D81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0906-AFF4-4C6F-8490-56FF021C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644-5517-4030-A898-CBFF0482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C4FF-335E-445C-9D5B-9BFE696B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81CE-504A-4A7E-9CAC-97C927E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BEC4-2DF7-453F-9DAB-F2ECD102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F59F-3525-4892-85E5-456F8F19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1FC3-41DF-4EFC-BB38-7331665A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839C-153E-42CC-923D-181BAF18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BA27-F53D-4AAF-8D86-B2BAEC8A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9B8B-C047-4A49-9875-73CA12AB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C0E5C-56B6-4DA2-A3EA-08504610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6E8E-F279-42B9-B2F9-D06CCA1C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CA8-B362-4C2F-A06A-7D77F706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A68A-C6E2-4600-BA56-14D31E4D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9C86-F3FB-47EB-A183-07074166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9EE5D-9F29-4086-A77B-C6D3F041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82DA5-1BD4-46B8-A50B-D544179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A9BC-4C91-49AC-9F58-550C5E3A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00D92-667B-4598-82EF-2F50264F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168EE-4642-49B5-98F0-5E2A2626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E3A43-6A04-4C54-9C5A-940BAEB5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F566-FCE9-4A33-B7B3-5602868D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D4E-7DDE-407F-ABD4-AD8033C4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AC1-387A-4283-AEAC-FC5FA444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20E-1126-4BB6-AE19-1A1234C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329-B457-41E8-9B63-9627F650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68B-8EA2-46C1-92E6-DC3892D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6FEC-7EBC-4A28-932F-3D1AAD0B566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49D7-BB0D-4A25-9D69-7DF254BD359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AE7A-EC6D-4276-B3A9-EA8101F1CE3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E453-83E5-4A39-BBED-DE6D2B8D6A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llerton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8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enny Cherr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nior Database Administrator / Architec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cherry@awarenesstech.co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Quest Software SQL Server MV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CSA, MCDBA, MCTS, MCIT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rvice Broker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ilar to other queuing technolo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is processed using SEND and RECEIVE instead of SELECT and INSE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is sent as an XML data in a binary form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ues can be processed automatically or on dem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rvice Broker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can be sent within the database, to another database on the server, or to a database on a remote ser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livery is guaranteed, and in the order 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are processed once and only once, in the order recei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can range in size from single bytes to mega-bytes in size (max size of ~1GB per messag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t SSB Quer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sys.conversation_endpo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sys.transmission_que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dbo.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QueueN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mo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QL Server Web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sq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ITKnowledgeExchange.techtarget.com/sql-serv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heroeshappenhere/regist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searchsqlserver.com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technet.microsoft.com/en-us/library/ms166044.aspx - Good SSB troubleshooting si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s For Coming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IZE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on’t forget we draw prizes on Sunday afternoon, including great products like Acronis and CodeSmith Tools, plus many new books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NKS AGAIN TO OUR CONTRIBUTOR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 State Fullerton (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fullerton.edu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herion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spherion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crosoft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microsof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eudesic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neudesic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DSA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pdsa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QuickStart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quickstar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rbor Objects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harborobject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dyssey Consulting Group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ocgpro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sign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idesign.ne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2:13:26Z</dcterms:created>
  <dc:creator>Denny</dc:creator>
  <dc:description/>
  <dc:language>en-US</dc:language>
  <cp:lastModifiedBy>Denny</cp:lastModifiedBy>
  <dcterms:modified xsi:type="dcterms:W3CDTF">2008-01-28T23:12:34Z</dcterms:modified>
  <cp:revision>24</cp:revision>
  <dc:subject/>
  <dc:title>SQL Server 2008 Resource Governor</dc:title>
</cp:coreProperties>
</file>